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9CD-04EE-4AA2-ACC0-BB641D91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D1A-453F-4B07-927A-07BA2CBC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674-5C4A-4D0C-A2EC-B382C2F5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D31-6A3F-46AF-86FE-A7FD48D3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3776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10E-41FF-44FC-9786-A44EF33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9668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D66-97E2-4453-8B6C-23A273B2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BAC-6F57-4815-8CF9-3C0A662A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CCA-B34E-4BD5-ABDC-3BB33B11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3776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D0F-80E5-4AE2-A4ED-103E3C9E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0B9-32F1-4C9B-90DA-2AC6B593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D5B-F874-4F49-AC46-BFB481AF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96680"/>
            <a:ext cx="40158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213-FC3B-46D0-91CF-EF7FA6DA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Page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d1958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0265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49a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0265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0265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0D1D4-D47C-43A8-8D7C-46B75AA872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0DB98-431C-43E4-96F5-E583FA01B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d1958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0265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49a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0265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0265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4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en-IE" sz="3000" spc="-1" strike="noStrike">
                <a:solidFill>
                  <a:srgbClr val="ffffff"/>
                </a:solidFill>
                <a:latin typeface="Arial"/>
                <a:ea typeface="Arial"/>
              </a:rPr>
              <a:t>Protecting Children </a:t>
            </a:r>
            <a:br>
              <a:rPr sz="3000"/>
            </a:br>
            <a:r>
              <a:rPr b="1" lang="en-IE" sz="3000" spc="-1" strike="noStrike">
                <a:solidFill>
                  <a:srgbClr val="ffffff"/>
                </a:solidFill>
                <a:latin typeface="Arial"/>
                <a:ea typeface="Arial"/>
              </a:rPr>
              <a:t>from Bullying and Cyberbullying:</a:t>
            </a:r>
            <a:br>
              <a:rPr sz="2800"/>
            </a:br>
            <a:br>
              <a:rPr sz="2800"/>
            </a:br>
            <a:r>
              <a:rPr b="1" lang="en-IE" sz="2800" spc="-1" strike="noStrike">
                <a:solidFill>
                  <a:srgbClr val="ffffff"/>
                </a:solidFill>
                <a:latin typeface="Arial"/>
                <a:ea typeface="Arial"/>
              </a:rPr>
              <a:t>Awareness Raising and Public Policies: Some examples from Ireland</a:t>
            </a:r>
            <a:br>
              <a:rPr sz="2800"/>
            </a:br>
            <a:endParaRPr b="1" lang="en-US" sz="28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650f3f"/>
                </a:solidFill>
                <a:latin typeface="Arial"/>
                <a:ea typeface="Arial"/>
              </a:rPr>
              <a:t>Brian O’Neill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650f3f"/>
                </a:solidFill>
                <a:latin typeface="Arial"/>
                <a:ea typeface="Arial"/>
              </a:rPr>
              <a:t>Dublin Institute of Technology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650f3f"/>
                </a:solidFill>
                <a:latin typeface="Arial"/>
                <a:ea typeface="Arial"/>
              </a:rPr>
              <a:t>9/10 May Florence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6486480" cy="446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ictcoalition.eu/images/ICTC-logo.png"/>
          <p:cNvPicPr/>
          <p:nvPr/>
        </p:nvPicPr>
        <p:blipFill>
          <a:blip r:embed="rId2"/>
          <a:stretch/>
        </p:blipFill>
        <p:spPr>
          <a:xfrm>
            <a:off x="324000" y="620640"/>
            <a:ext cx="1742760" cy="62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6810480" y="333360"/>
            <a:ext cx="1971720" cy="488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6858000" y="4313160"/>
            <a:ext cx="1962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Industry Solutions for Safer Technology Use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90400" y="1459080"/>
          <a:ext cx="8229600" cy="4989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powering Parents / Educato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e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powering the Us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e59"/>
                    </a:solidFill>
                  </a:tcPr>
                </a:tc>
              </a:tr>
              <a:tr h="461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advice + videos + guides + technology which supports parents: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 with children about safe internet u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clear rules on usa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/video/SNS/image/keyword filter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lity to block or monitor si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lity to screen materi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 of activity reports to monitor u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lity to change mobile numb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able features on a ph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nt aler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cc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advice + videos + guides + technology which supports the user: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ance on safe internet u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o block cont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o control privacy sett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o report abu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o remove cont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report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o do if you are cyberbulli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ccd1"/>
                    </a:solidFill>
                  </a:tcPr>
                </a:tc>
              </a:tr>
            </a:tbl>
          </a:graphicData>
        </a:graphic>
      </p:graphicFrame>
      <p:sp>
        <p:nvSpPr>
          <p:cNvPr id="116" name="TextBox 4"/>
          <p:cNvSpPr/>
          <p:nvPr/>
        </p:nvSpPr>
        <p:spPr>
          <a:xfrm>
            <a:off x="6048000" y="634032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cd1e59"/>
                </a:solidFill>
                <a:latin typeface="Arial"/>
              </a:rPr>
              <a:t>(Smith and Steffgen, 201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Conclusion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Some features of good practice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Consulting with children / highlighting issues that are of concern to children themselves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A multi-stakeholder approach with high level governmental involvement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Empowering schools to take responsibility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Training supports  and resources for implementation 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Data collection and evaluation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702650"/>
                </a:solidFill>
                <a:latin typeface="Arial"/>
              </a:rPr>
              <a:t>Embedding within a framework to promote better online experience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Main Points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96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702650"/>
                </a:solidFill>
                <a:latin typeface="Arial"/>
              </a:rPr>
              <a:t>Prevention, awareness-raising and children’s empowerment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02650"/>
                </a:solidFill>
                <a:latin typeface="Arial"/>
              </a:rPr>
              <a:t>A local context – Ireland’s </a:t>
            </a:r>
            <a:r>
              <a:rPr b="1" i="1" lang="en-US" sz="2400" spc="-1" strike="noStrike">
                <a:solidFill>
                  <a:srgbClr val="702650"/>
                </a:solidFill>
                <a:latin typeface="Arial"/>
              </a:rPr>
              <a:t>Action Plan on Bullying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02650"/>
                </a:solidFill>
                <a:latin typeface="Arial"/>
              </a:rPr>
              <a:t>School-based prevention strategies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02650"/>
                </a:solidFill>
                <a:latin typeface="Arial"/>
              </a:rPr>
              <a:t>Legislation and policy frameworks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02650"/>
                </a:solidFill>
                <a:latin typeface="Arial"/>
              </a:rPr>
              <a:t>Industry and technical solutions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Ombudsman Consultation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Advocacy role of Ombudsman for Children – “</a:t>
            </a:r>
            <a:r>
              <a:rPr b="1" i="1" lang="en-IE" sz="1800" spc="-1" strike="noStrike">
                <a:solidFill>
                  <a:srgbClr val="702650"/>
                </a:solidFill>
                <a:latin typeface="Arial"/>
              </a:rPr>
              <a:t>consult with children and highlight issues relating to their rights and welfare that are of concern to children themselves”</a:t>
            </a: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Consultation with 300 children on bullying in schools facilitated by OCO (2012)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Emphasis on prevention strategies through school policies + awareness raising and education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Homophobic bullying as an area of particular concern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Schools need to engage where cyberbullying is an issue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 rot="468600">
            <a:off x="5904000" y="1962000"/>
            <a:ext cx="2730240" cy="389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Action Plan on Bullying (2013)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Included in Programme for Government (2011-16)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DoES &amp; DCYA joint initiative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d1e59"/>
              </a:buClr>
              <a:buSzPct val="20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12 point plan including: 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New anti-bullying procedures for schools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Coordinated training and resource development for boards of management and parents. 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School inspections and thematic evaluation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National media and awareness campaigns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Supports for children with special needs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70265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1600" spc="-1" strike="noStrike">
                <a:solidFill>
                  <a:srgbClr val="97357d"/>
                </a:solidFill>
                <a:latin typeface="Arial"/>
              </a:rPr>
              <a:t>Research on prevalence and impact of bullying linked to social media on the mental health and suicidal behaviour among young people</a:t>
            </a:r>
            <a:endParaRPr b="0" lang="en-US" sz="1600" spc="-1" strike="noStrike">
              <a:solidFill>
                <a:srgbClr val="97357d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076800" y="1855800"/>
            <a:ext cx="2743200" cy="387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School-based </a:t>
            </a:r>
            <a:br>
              <a:rPr sz="3200"/>
            </a:b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Anti-Cyberbullying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950760" y="6308640"/>
            <a:ext cx="5276880" cy="50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900000" y="1514520"/>
            <a:ext cx="7043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1926720"/>
            <a:ext cx="793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800" spc="-1" strike="noStrike">
                <a:solidFill>
                  <a:srgbClr val="702650"/>
                </a:solidFill>
                <a:latin typeface="Arial"/>
              </a:rPr>
              <a:t>Cyber-crime affecting personal safety, privacy and reputation including cyber-bullying </a:t>
            </a:r>
            <a:r>
              <a:rPr b="1" lang="en-IE" sz="1800" spc="-1" strike="noStrike">
                <a:solidFill>
                  <a:srgbClr val="702650"/>
                </a:solidFill>
                <a:latin typeface="Arial"/>
              </a:rPr>
              <a:t>(2015)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Should the offence of harassment include a specific reference to cyber-harassment?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Should there be a new offence that would make criminal once-off serious interferences with another person’s privacy using cyber technology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Does current law adequately address online hate crime?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Are the penalties for offences for cyber-harassment and related behaviour appropriate?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1500" spc="-1" strike="noStrike">
                <a:solidFill>
                  <a:srgbClr val="702650"/>
                </a:solidFill>
                <a:latin typeface="Arial"/>
              </a:rPr>
              <a:t>Are existing civil law remedies adequate to protect against cyber-harassment and to safeguard the right to privacy?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500" spc="-1" strike="noStrike">
                <a:solidFill>
                  <a:srgbClr val="702650"/>
                </a:solidFill>
                <a:latin typeface="Arial"/>
              </a:rPr>
              <a:t>The working group [on Bullying] has come to the conclusion that, at this time, the focus should be on securing implementation of existing legislative requirements across the system rather than seeking to introduce new legislation.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500" spc="-1" strike="noStrike">
                <a:solidFill>
                  <a:srgbClr val="702650"/>
                </a:solidFill>
                <a:latin typeface="Arial"/>
              </a:rPr>
              <a:t>Action Plan on Bullying 2013, Key Findings</a:t>
            </a:r>
            <a:endParaRPr b="1" lang="en-US" sz="1500" spc="-1" strike="noStrike">
              <a:solidFill>
                <a:srgbClr val="702650"/>
              </a:solidFill>
              <a:latin typeface="Arial"/>
            </a:endParaRPr>
          </a:p>
        </p:txBody>
      </p:sp>
      <p:pic>
        <p:nvPicPr>
          <p:cNvPr id="96" name="Picture 2" descr="Law Reform Commission"/>
          <p:cNvPicPr/>
          <p:nvPr/>
        </p:nvPicPr>
        <p:blipFill>
          <a:blip r:embed="rId1"/>
          <a:stretch/>
        </p:blipFill>
        <p:spPr>
          <a:xfrm>
            <a:off x="395280" y="174600"/>
            <a:ext cx="34909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600" spc="-1" strike="noStrike">
                <a:solidFill>
                  <a:srgbClr val="cd1958"/>
                </a:solidFill>
                <a:latin typeface="Arial Black"/>
              </a:rPr>
              <a:t>Internet Content </a:t>
            </a:r>
            <a:br>
              <a:rPr sz="3600"/>
            </a:br>
            <a:r>
              <a:rPr b="1" lang="en-IE" sz="3600" spc="-1" strike="noStrike">
                <a:solidFill>
                  <a:srgbClr val="cd1958"/>
                </a:solidFill>
                <a:latin typeface="Arial Black"/>
              </a:rPr>
              <a:t>Governance and E-Safety</a:t>
            </a:r>
            <a:endParaRPr b="1" lang="en-US" sz="36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800" spc="-1" strike="noStrike">
                <a:solidFill>
                  <a:srgbClr val="702650"/>
                </a:solidFill>
                <a:latin typeface="Arial"/>
              </a:rPr>
              <a:t>Task Force Group reporting to Minister for Communications (2014)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Internet safety arrangements at the level of the state  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Issues of misuse / abuse of online communication, specifically cyberbullying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d1e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2650"/>
                </a:solidFill>
                <a:latin typeface="Arial"/>
              </a:rPr>
              <a:t>Issues of content that may be offensive or inappropriate for certain ages</a:t>
            </a: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02650"/>
              </a:solidFill>
              <a:latin typeface="Arial"/>
            </a:endParaRPr>
          </a:p>
        </p:txBody>
      </p:sp>
      <p:pic>
        <p:nvPicPr>
          <p:cNvPr id="99" name="Picture 3" descr="Screen Shot 2014-07-01 at 22.36.34.png"/>
          <p:cNvPicPr/>
          <p:nvPr/>
        </p:nvPicPr>
        <p:blipFill>
          <a:blip r:embed="rId1"/>
          <a:stretch/>
        </p:blipFill>
        <p:spPr>
          <a:xfrm rot="454800">
            <a:off x="5759280" y="1935000"/>
            <a:ext cx="3013200" cy="420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Screen Shot 2014-07-02 at 14.20.07.png"/>
          <p:cNvPicPr/>
          <p:nvPr/>
        </p:nvPicPr>
        <p:blipFill>
          <a:blip r:embed="rId1"/>
          <a:srcRect l="0" t="6330" r="0" b="0"/>
          <a:stretch/>
        </p:blipFill>
        <p:spPr>
          <a:xfrm>
            <a:off x="1422360" y="1795320"/>
            <a:ext cx="6299280" cy="3915000"/>
          </a:xfrm>
          <a:prstGeom prst="rect">
            <a:avLst/>
          </a:prstGeom>
          <a:ln w="0">
            <a:noFill/>
          </a:ln>
        </p:spPr>
      </p:pic>
      <p:sp>
        <p:nvSpPr>
          <p:cNvPr id="101" name="Title 1"/>
          <p:cNvSpPr/>
          <p:nvPr/>
        </p:nvSpPr>
        <p:spPr>
          <a:xfrm>
            <a:off x="4762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d1958"/>
                </a:solidFill>
                <a:latin typeface="Arial Black"/>
              </a:rPr>
              <a:t>A Governance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cd1958"/>
                </a:solidFill>
                <a:latin typeface="Arial Black"/>
              </a:rPr>
              <a:t>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085760" y="1860480"/>
            <a:ext cx="6735960" cy="11912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ff0000"/>
                </a:solidFill>
                <a:latin typeface="Arial"/>
              </a:rPr>
              <a:t>A policy coordination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095480" y="3124080"/>
            <a:ext cx="6735600" cy="11912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ff0000"/>
                </a:solidFill>
                <a:latin typeface="Arial"/>
              </a:rPr>
              <a:t>Forum for multi-stakeholder co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095480" y="4390920"/>
            <a:ext cx="6735600" cy="11912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ff0000"/>
                </a:solidFill>
                <a:latin typeface="Arial"/>
              </a:rPr>
              <a:t>Platform for service deli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cd1958"/>
                </a:solidFill>
                <a:latin typeface="Arial Black"/>
              </a:rPr>
              <a:t>Role of Industry in tackling cyberbullying</a:t>
            </a:r>
            <a:endParaRPr b="1" lang="en-US" sz="3200" spc="-1" strike="noStrike">
              <a:solidFill>
                <a:srgbClr val="cd1958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924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European Framework for Safer Mobile Use by Younger Teenagers and Children (2007)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Safer Social Networking Principles for the EU (2009)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CEO Coalition Principles (2011)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d1e5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400" spc="-1" strike="noStrike">
                <a:solidFill>
                  <a:srgbClr val="702650"/>
                </a:solidFill>
                <a:latin typeface="Arial"/>
              </a:rPr>
              <a:t>ICT Coalition for Children Online (2012)</a:t>
            </a:r>
            <a:endParaRPr b="1" lang="en-US" sz="2400" spc="-1" strike="noStrike">
              <a:solidFill>
                <a:srgbClr val="702650"/>
              </a:solidFill>
              <a:latin typeface="Arial"/>
            </a:endParaRPr>
          </a:p>
        </p:txBody>
      </p:sp>
      <p:pic>
        <p:nvPicPr>
          <p:cNvPr id="107" name="Picture 2" descr="European Commission logo"/>
          <p:cNvPicPr/>
          <p:nvPr/>
        </p:nvPicPr>
        <p:blipFill>
          <a:blip r:embed="rId1"/>
          <a:stretch/>
        </p:blipFill>
        <p:spPr>
          <a:xfrm>
            <a:off x="7308720" y="3159000"/>
            <a:ext cx="1638360" cy="1133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GSMA"/>
          <p:cNvPicPr/>
          <p:nvPr/>
        </p:nvPicPr>
        <p:blipFill>
          <a:blip r:embed="rId2"/>
          <a:stretch/>
        </p:blipFill>
        <p:spPr>
          <a:xfrm>
            <a:off x="7493040" y="17002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ictcoalition.eu/images/ICTC-logo.png"/>
          <p:cNvPicPr/>
          <p:nvPr/>
        </p:nvPicPr>
        <p:blipFill>
          <a:blip r:embed="rId3"/>
          <a:stretch/>
        </p:blipFill>
        <p:spPr>
          <a:xfrm>
            <a:off x="7237440" y="5013360"/>
            <a:ext cx="1743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0:12:45Z</dcterms:created>
  <dc:creator>Claire Harrison</dc:creator>
  <dc:description/>
  <dc:language>en-US</dc:language>
  <cp:lastModifiedBy>Miguel Caldeira</cp:lastModifiedBy>
  <dcterms:modified xsi:type="dcterms:W3CDTF">2017-04-05T16:02:34Z</dcterms:modified>
  <cp:revision>221</cp:revision>
  <dc:subject/>
  <dc:title>Slide 1</dc:title>
</cp:coreProperties>
</file>